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7B7-90D7-4D5C-AF18-F22BAEB2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79A-AD51-43E7-900F-6068DFAF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8BD-22C7-4F2C-B39C-2B7EF267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EB7-038C-4497-ADC1-32C26638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607-2E46-4731-B8D5-7F2368C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ED9-2069-4429-AA28-8995E09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A50-0E8A-42F3-8300-634A5F04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18A-EF14-43DE-AC96-74029E7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DB9-B174-4CAA-AB25-D5AD40F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166-8044-42D4-8418-32C81B0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E03-A727-409A-8685-BB77ABE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B65-1921-441D-9C30-F61883F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85D0-932D-4C8F-9951-DFB8F74E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3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Properties of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219400"/>
            <a:ext cx="8153280" cy="166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523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028960"/>
            <a:ext cx="8610480" cy="246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56386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9907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:  Tell whethe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wic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9302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839080" cy="30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257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600200" cy="49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1676520"/>
            <a:ext cx="205740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1600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2096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51460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28600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095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ing with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678204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0339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4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ultiplication Properties of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8839080" cy="172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6765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ising a Power to a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7620120" cy="11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5943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077320" cy="118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ising a Product to a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53:24Z</dcterms:created>
  <dc:creator>Susannah Graham</dc:creator>
  <dc:description/>
  <dc:language>en-US</dc:language>
  <cp:lastModifiedBy>Susannah Graham</cp:lastModifiedBy>
  <dcterms:modified xsi:type="dcterms:W3CDTF">2009-08-04T22:10:59Z</dcterms:modified>
  <cp:revision>3</cp:revision>
  <dc:subject/>
  <dc:title>Lesson 8.3 Multiplication Properties of Exponents</dc:title>
</cp:coreProperties>
</file>